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4F9-49C7-4C77-AEB6-8D638497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9E1-D5A1-4D96-AAE7-1569E2F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935-B7FA-4F31-88A0-EFDB857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6B3-58DF-437A-93BB-7E73DFE6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E226-41DB-4F7D-9FA4-1BF9B996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DB2-FA17-4918-B519-C256D84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2708-22A9-4015-877C-6361D10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8306-57EE-434A-A455-6529CF50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2E0-D8E5-4587-AE24-3F7A0DB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50A-35CE-4D4E-87E0-88593D0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38A-8DB8-45D6-AA32-B920713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038-C923-415F-97D1-76A01F0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C4B-78FD-4A10-ABCF-7AE479A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B1B6-A06B-4AF4-928A-0711060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3DC7-C892-47E5-B5FD-3FA46515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4ED0-E0D2-42B6-8E32-8A4D991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5E93-503F-4FD6-864F-215F6CE4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111-400F-4F84-B770-EBFCC458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611-DEC3-49F9-9684-C43E9CF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781-5347-4FD9-8B4A-6A06EC7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7B6-5106-4639-B29A-332ECA7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E81-8802-4EB9-A7D6-E6B1907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6F8-F127-42F3-BF3A-D942D27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279-85E7-451F-9734-3139F31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93B-975C-4C39-8624-EC0F5609DCB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0B63-3DA3-40BE-BEBA-41CD836FCF7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5805000"/>
            <a:ext cx="640080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Истомина На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1187280" y="836640"/>
            <a:ext cx="7129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рана Дроб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85" name="Picture 14" descr="school19-08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ff00"/>
                </a:solidFill>
                <a:latin typeface="Arial"/>
              </a:rPr>
              <a:t>Желаем Удачи!!!!!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chool02-12"/>
          <p:cNvPicPr/>
          <p:nvPr/>
        </p:nvPicPr>
        <p:blipFill>
          <a:blip r:embed="rId1"/>
          <a:stretch/>
        </p:blipFill>
        <p:spPr>
          <a:xfrm>
            <a:off x="3564000" y="3933720"/>
            <a:ext cx="30099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Можно ли   измерить мир?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55a1f737e21f8f9b929f2d26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5437440" cy="13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chool02-14"/>
          <p:cNvPicPr/>
          <p:nvPr/>
        </p:nvPicPr>
        <p:blipFill>
          <a:blip r:embed="rId2"/>
          <a:stretch/>
        </p:blipFill>
        <p:spPr>
          <a:xfrm>
            <a:off x="4788000" y="1844640"/>
            <a:ext cx="3983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50200" cy="127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7" descr="school06-17"/>
          <p:cNvPicPr/>
          <p:nvPr/>
        </p:nvPicPr>
        <p:blipFill>
          <a:blip r:embed="rId2"/>
          <a:stretch/>
        </p:blipFill>
        <p:spPr>
          <a:xfrm>
            <a:off x="179280" y="1916280"/>
            <a:ext cx="2124360" cy="458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chool02-30"/>
          <p:cNvPicPr/>
          <p:nvPr/>
        </p:nvPicPr>
        <p:blipFill>
          <a:blip r:embed="rId3"/>
          <a:stretch/>
        </p:blipFill>
        <p:spPr>
          <a:xfrm>
            <a:off x="5940360" y="3789360"/>
            <a:ext cx="299088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358120" cy="18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1499760"/>
            <a:ext cx="6572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Как и когда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7" descr="school10-09"/>
          <p:cNvPicPr/>
          <p:nvPr/>
        </p:nvPicPr>
        <p:blipFill>
          <a:blip r:embed="rId2"/>
          <a:stretch/>
        </p:blipFill>
        <p:spPr>
          <a:xfrm>
            <a:off x="6562800" y="1928880"/>
            <a:ext cx="258120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41837"/>
                </a:solidFill>
                <a:latin typeface="Book Antiqua"/>
              </a:rPr>
              <a:t>Исследовател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24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school02-21"/>
          <p:cNvPicPr/>
          <p:nvPr/>
        </p:nvPicPr>
        <p:blipFill>
          <a:blip r:embed="rId2"/>
          <a:stretch/>
        </p:blipFill>
        <p:spPr>
          <a:xfrm>
            <a:off x="5219640" y="2133720"/>
            <a:ext cx="361656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 каких  источниках впервые упоминается о дробя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оби!!! Какие они в Древнем Вавилон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Где впервые стали записывать дроби с помощью числителя и знаменател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6" descr="school02-28"/>
          <p:cNvPicPr/>
          <p:nvPr/>
        </p:nvPicPr>
        <p:blipFill>
          <a:blip r:embed="rId2"/>
          <a:stretch/>
        </p:blipFill>
        <p:spPr>
          <a:xfrm>
            <a:off x="6443640" y="2565360"/>
            <a:ext cx="2448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school02-11"/>
          <p:cNvPicPr/>
          <p:nvPr/>
        </p:nvPicPr>
        <p:blipFill>
          <a:blip r:embed="rId2"/>
          <a:stretch/>
        </p:blipFill>
        <p:spPr>
          <a:xfrm>
            <a:off x="6696000" y="3213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chool19-03"/>
          <p:cNvPicPr/>
          <p:nvPr/>
        </p:nvPicPr>
        <p:blipFill>
          <a:blip r:embed="rId3"/>
          <a:stretch/>
        </p:blipFill>
        <p:spPr>
          <a:xfrm>
            <a:off x="1116000" y="4581360"/>
            <a:ext cx="439272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school19-07"/>
          <p:cNvPicPr/>
          <p:nvPr/>
        </p:nvPicPr>
        <p:blipFill>
          <a:blip r:embed="rId2"/>
          <a:stretch/>
        </p:blipFill>
        <p:spPr>
          <a:xfrm>
            <a:off x="5148360" y="242100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Admin</cp:lastModifiedBy>
  <dcterms:modified xsi:type="dcterms:W3CDTF">2010-05-28T09:01:14Z</dcterms:modified>
  <cp:revision>31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